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09A-8589-4DA7-9FCF-912067FE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E55-F43C-4CE9-B58C-1AF85A79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F48-4AD5-4533-80A3-56BEC815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B64-E431-47F3-BED7-EED01393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6DA6-DE1E-488A-ABE0-E191A9B7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F888-3069-4CD5-BB8B-F9466A78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01B3-D52F-4785-AD60-F90A1A7E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F250-63F5-4962-A2CA-31C2DCA0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52E8-301C-41E8-A553-C7587362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743D-C775-486A-A969-C15C113A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D428-2697-421B-8C82-26B22350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C7C-6E9F-41E5-813B-3FFB069C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57C2-F82A-4A59-A145-59F74121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9BEF-B808-447B-BB2B-966B1A84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1D8F-F7FE-41E8-9B41-F41459FE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8C45-8CD2-4F5A-9067-BD1CB203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4369-9327-4B3C-94FA-3288E021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47C-904C-43E5-B82A-5079760B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C65-7DC4-40E3-8231-177C3036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A98-0528-48F4-B0A6-E4CA2435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BB6-A9C4-458F-B56A-CB1CA5AD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B81-A773-4CA4-94B1-6E450B8C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23B-13BE-4175-99C1-F5C015E3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C14-40CC-4E7C-87EE-CE986A36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1268-A4CE-4491-974B-9C63C828F5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6D93-F6FA-4116-B7F6-DDBB1171E9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jijiuba.com/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jijiuba.com/a/zhinan/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jijiuba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2015</a:t>
            </a: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心肺复苏指南（</a:t>
            </a: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AHA</a:t>
            </a: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临沂市人民医院        吴兴贵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CPR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主要包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基础生命支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(basic life support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BL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高级心血管生命支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(advanced cardiovascular life support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ACL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宋体"/>
              </a:rPr>
              <a:t>基础生命支持</a:t>
            </a: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BLS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L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心脏骤停后挽救生命的基础，主要是指徒手实施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PR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L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基本内容包括识别心脏骤停、呼叫急救系统、尽早开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CPR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迅速使用除颤器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E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除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宋体"/>
              </a:rPr>
              <a:t>基础生命支持</a:t>
            </a:r>
            <a:br>
              <a:rPr sz="3600"/>
            </a:br>
            <a:r>
              <a:rPr b="0" lang="zh-CN" sz="3600" spc="-1" strike="noStrike">
                <a:solidFill>
                  <a:srgbClr val="e4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e40000"/>
                </a:solidFill>
                <a:latin typeface="宋体"/>
              </a:rPr>
              <a:t>Basic Life support</a:t>
            </a:r>
            <a:r>
              <a:rPr b="0" lang="zh-CN" sz="3600" spc="-1" strike="noStrike">
                <a:solidFill>
                  <a:srgbClr val="e40000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003399"/>
                </a:solidFill>
                <a:latin typeface="宋体"/>
              </a:rPr>
              <a:t>BLS</a:t>
            </a:r>
            <a:r>
              <a:rPr b="0" lang="zh-CN" sz="3600" spc="-1" strike="noStrike">
                <a:solidFill>
                  <a:srgbClr val="e4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的程序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60" name="Picture 23" descr="20070813170342267"/>
          <p:cNvPicPr/>
          <p:nvPr/>
        </p:nvPicPr>
        <p:blipFill>
          <a:blip r:embed="rId1"/>
          <a:stretch/>
        </p:blipFill>
        <p:spPr>
          <a:xfrm>
            <a:off x="2743200" y="1523880"/>
            <a:ext cx="160020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1" name=""/>
          <p:cNvGraphicFramePr/>
          <p:nvPr/>
        </p:nvGraphicFramePr>
        <p:xfrm>
          <a:off x="3124080" y="3429000"/>
          <a:ext cx="1524240" cy="45576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4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Arial"/>
                        </a:rPr>
                        <a:t>、呼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1648080" cy="18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3" name=""/>
          <p:cNvGraphicFramePr/>
          <p:nvPr/>
        </p:nvGraphicFramePr>
        <p:xfrm>
          <a:off x="990720" y="3429000"/>
          <a:ext cx="1752480" cy="45720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e40000"/>
                          </a:solidFill>
                          <a:latin typeface="Arial"/>
                        </a:rPr>
                        <a:t>、评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4" name="Group 18"/>
          <p:cNvGrpSpPr/>
          <p:nvPr/>
        </p:nvGrpSpPr>
        <p:grpSpPr>
          <a:xfrm>
            <a:off x="4495680" y="1523880"/>
            <a:ext cx="4647960" cy="2349000"/>
            <a:chOff x="4495680" y="1523880"/>
            <a:chExt cx="4647960" cy="2349000"/>
          </a:xfrm>
        </p:grpSpPr>
        <p:pic>
          <p:nvPicPr>
            <p:cNvPr id="565" name="Picture 19" descr="手法2"/>
            <p:cNvPicPr/>
            <p:nvPr/>
          </p:nvPicPr>
          <p:blipFill>
            <a:blip r:embed="rId3"/>
            <a:stretch/>
          </p:blipFill>
          <p:spPr>
            <a:xfrm>
              <a:off x="5274000" y="1523880"/>
              <a:ext cx="1193040" cy="12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20" descr="手法3"/>
            <p:cNvPicPr/>
            <p:nvPr/>
          </p:nvPicPr>
          <p:blipFill>
            <a:blip r:embed="rId4"/>
            <a:stretch/>
          </p:blipFill>
          <p:spPr>
            <a:xfrm>
              <a:off x="6323400" y="2121120"/>
              <a:ext cx="220500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21"/>
            <p:cNvSpPr/>
            <p:nvPr/>
          </p:nvSpPr>
          <p:spPr>
            <a:xfrm>
              <a:off x="4495680" y="3413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、放平患者，心脏按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9"/>
          <p:cNvGrpSpPr/>
          <p:nvPr/>
        </p:nvGrpSpPr>
        <p:grpSpPr>
          <a:xfrm>
            <a:off x="304920" y="4267080"/>
            <a:ext cx="2286000" cy="2058480"/>
            <a:chOff x="304920" y="4267080"/>
            <a:chExt cx="2286000" cy="2058480"/>
          </a:xfrm>
        </p:grpSpPr>
        <p:pic>
          <p:nvPicPr>
            <p:cNvPr id="569" name="Picture 10" descr="口对口呼吸"/>
            <p:cNvPicPr/>
            <p:nvPr/>
          </p:nvPicPr>
          <p:blipFill>
            <a:blip r:embed="rId5"/>
            <a:stretch/>
          </p:blipFill>
          <p:spPr>
            <a:xfrm>
              <a:off x="304920" y="4267080"/>
              <a:ext cx="2286000" cy="139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1"/>
            <p:cNvSpPr/>
            <p:nvPr/>
          </p:nvSpPr>
          <p:spPr>
            <a:xfrm>
              <a:off x="457560" y="5865840"/>
              <a:ext cx="20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40000"/>
                  </a:solidFill>
                  <a:latin typeface="宋体"/>
                </a:rPr>
                <a:t>4</a:t>
              </a:r>
              <a:r>
                <a:rPr b="1" lang="zh-CN" sz="2400" spc="-1" strike="noStrike">
                  <a:solidFill>
                    <a:srgbClr val="e40000"/>
                  </a:solidFill>
                  <a:latin typeface="宋体"/>
                </a:rPr>
                <a:t>、疏通气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15"/>
          <p:cNvGrpSpPr/>
          <p:nvPr/>
        </p:nvGrpSpPr>
        <p:grpSpPr>
          <a:xfrm>
            <a:off x="2590920" y="4114800"/>
            <a:ext cx="2377080" cy="2362320"/>
            <a:chOff x="2590920" y="4114800"/>
            <a:chExt cx="2377080" cy="2362320"/>
          </a:xfrm>
        </p:grpSpPr>
        <p:pic>
          <p:nvPicPr>
            <p:cNvPr id="572" name="Picture 16" descr="头后仰"/>
            <p:cNvPicPr/>
            <p:nvPr/>
          </p:nvPicPr>
          <p:blipFill>
            <a:blip r:embed="rId6"/>
            <a:stretch/>
          </p:blipFill>
          <p:spPr>
            <a:xfrm>
              <a:off x="2590920" y="4114800"/>
              <a:ext cx="16876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 Box 17"/>
            <p:cNvSpPr/>
            <p:nvPr/>
          </p:nvSpPr>
          <p:spPr>
            <a:xfrm>
              <a:off x="4238640" y="4681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仰头抬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3"/>
          <p:cNvGrpSpPr/>
          <p:nvPr/>
        </p:nvGrpSpPr>
        <p:grpSpPr>
          <a:xfrm>
            <a:off x="4648320" y="4630680"/>
            <a:ext cx="2818800" cy="2229840"/>
            <a:chOff x="4648320" y="4630680"/>
            <a:chExt cx="2818800" cy="2229840"/>
          </a:xfrm>
        </p:grpSpPr>
        <p:sp>
          <p:nvSpPr>
            <p:cNvPr id="575" name="Text Box 4"/>
            <p:cNvSpPr/>
            <p:nvPr/>
          </p:nvSpPr>
          <p:spPr>
            <a:xfrm>
              <a:off x="4648320" y="6400800"/>
              <a:ext cx="28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4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e40000"/>
                  </a:solidFill>
                  <a:latin typeface="Times New Roman"/>
                </a:rPr>
                <a:t>、口对口人工呼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5" descr="02502"/>
            <p:cNvPicPr/>
            <p:nvPr/>
          </p:nvPicPr>
          <p:blipFill>
            <a:blip r:embed="rId7"/>
            <a:stretch/>
          </p:blipFill>
          <p:spPr>
            <a:xfrm>
              <a:off x="5193000" y="4630680"/>
              <a:ext cx="1735560" cy="167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7" name="Group 12"/>
          <p:cNvGrpSpPr/>
          <p:nvPr/>
        </p:nvGrpSpPr>
        <p:grpSpPr>
          <a:xfrm>
            <a:off x="7162920" y="3886200"/>
            <a:ext cx="1828440" cy="2195280"/>
            <a:chOff x="7162920" y="3886200"/>
            <a:chExt cx="1828440" cy="2195280"/>
          </a:xfrm>
        </p:grpSpPr>
        <p:pic>
          <p:nvPicPr>
            <p:cNvPr id="578" name="Picture 13" descr="口对鼻人工呼吸"/>
            <p:cNvPicPr/>
            <p:nvPr/>
          </p:nvPicPr>
          <p:blipFill>
            <a:blip r:embed="rId8"/>
            <a:stretch/>
          </p:blipFill>
          <p:spPr>
            <a:xfrm>
              <a:off x="7162920" y="3886200"/>
              <a:ext cx="1828440" cy="143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 Box 14"/>
            <p:cNvSpPr/>
            <p:nvPr/>
          </p:nvSpPr>
          <p:spPr>
            <a:xfrm>
              <a:off x="7333560" y="5377680"/>
              <a:ext cx="157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40000"/>
                  </a:solidFill>
                  <a:latin typeface="Times New Roman"/>
                </a:rPr>
                <a:t>口对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40000"/>
                  </a:solidFill>
                  <a:latin typeface="Times New Roman"/>
                </a:rPr>
                <a:t>人工呼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高级心血管生命支持</a:t>
            </a:r>
            <a:r>
              <a:rPr b="0" lang="zh-CN" sz="4000" spc="-1" strike="noStrike">
                <a:solidFill>
                  <a:srgbClr val="0066cc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ACLS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指由专业急救、医护人员应用急救器材和药品所实施的一系列复苏措施，主要包括人工气道的建立、机械通气、循环辅助仪器、药物和液体的应用、电除颤、病情和疗效评估、复苏后脏器功能的维持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2010-11-09_1912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体征评估从“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步”变成了“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步”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相对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的指南“在评估患者意识之后再分别评估患者呼吸、脉搏”这样的按部就班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的指南倾向于评估患者意识后，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同时评估呼吸和脉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之后再启动应急反应系统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R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或求助。这样，有效、同时的评估可减少启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R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延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4343400" y="3352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先按还是先电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尽快除颤一直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P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保证患者存活率的关键一环。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的指南中，在自动体外除颤仪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E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或除颤器准备就绪时，先进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5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钟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P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然后再除颤。今年的指南则表示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一旦除颤器准备就绪，就直接除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当然，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E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除颤器的获取和准备过程中，还是需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P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除颤必须及早进行的原因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大部分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0%—9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成人突然非创伤心跳骤停的最初心律失常为室颤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除颤是对室颤最有效的治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随着时间的推移，除颤成功的机率迅速下降，每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约下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%—8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室颤常在数分钟内转变为心脏停搏，则复苏成功的希望很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宋体"/>
              </a:rPr>
              <a:t>时间就是生命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搏骤停的严重后果以秒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丧失，突然倒地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晕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-3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身抽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—瞳孔散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主呼吸逐渐停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出现脑水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出现脑细胞死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细胞出现不可逆转的损害，进入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”“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植物状态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金救命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宋体"/>
              </a:rPr>
              <a:t>时间就是生命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心肺复苏存活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的时间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400" spc="-1" strike="noStrike">
                <a:solidFill>
                  <a:srgbClr val="009900"/>
                </a:solidFill>
                <a:latin typeface="宋体"/>
              </a:rPr>
              <a:t>1</a:t>
            </a:r>
            <a:r>
              <a:rPr b="1" lang="zh-CN" sz="3400" spc="-1" strike="noStrike">
                <a:solidFill>
                  <a:srgbClr val="009900"/>
                </a:solidFill>
                <a:latin typeface="宋体"/>
              </a:rPr>
              <a:t>分钟内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zh-CN" sz="3400" spc="-1" strike="noStrike">
                <a:solidFill>
                  <a:srgbClr val="009900"/>
                </a:solidFill>
                <a:latin typeface="宋体"/>
              </a:rPr>
              <a:t>90%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9900"/>
                </a:solidFill>
                <a:latin typeface="宋体"/>
              </a:rPr>
              <a:t>      </a:t>
            </a:r>
            <a:r>
              <a:rPr b="1" lang="zh-CN" sz="3400" spc="-1" strike="noStrike">
                <a:solidFill>
                  <a:srgbClr val="009900"/>
                </a:solidFill>
                <a:latin typeface="宋体"/>
              </a:rPr>
              <a:t>4</a:t>
            </a:r>
            <a:r>
              <a:rPr b="1" lang="zh-CN" sz="3400" spc="-1" strike="noStrike">
                <a:solidFill>
                  <a:srgbClr val="009900"/>
                </a:solidFill>
                <a:latin typeface="宋体"/>
              </a:rPr>
              <a:t>分钟内          </a:t>
            </a:r>
            <a:r>
              <a:rPr b="1" lang="zh-CN" sz="3400" spc="-1" strike="noStrike">
                <a:solidFill>
                  <a:srgbClr val="009900"/>
                </a:solidFill>
                <a:latin typeface="宋体"/>
              </a:rPr>
              <a:t>60%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400" spc="-1" strike="noStrike">
                <a:solidFill>
                  <a:srgbClr val="e40000"/>
                </a:solidFill>
                <a:latin typeface="宋体"/>
              </a:rPr>
              <a:t>6</a:t>
            </a:r>
            <a:r>
              <a:rPr b="1" lang="zh-CN" sz="3400" spc="-1" strike="noStrike">
                <a:solidFill>
                  <a:srgbClr val="e40000"/>
                </a:solidFill>
                <a:latin typeface="宋体"/>
              </a:rPr>
              <a:t>分钟内          </a:t>
            </a:r>
            <a:r>
              <a:rPr b="1" lang="zh-CN" sz="3400" spc="-1" strike="noStrike">
                <a:solidFill>
                  <a:srgbClr val="e40000"/>
                </a:solidFill>
                <a:latin typeface="宋体"/>
              </a:rPr>
              <a:t>40%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e40000"/>
                </a:solidFill>
                <a:latin typeface="宋体"/>
              </a:rPr>
              <a:t>      </a:t>
            </a:r>
            <a:r>
              <a:rPr b="1" lang="zh-CN" sz="3400" spc="-1" strike="noStrike">
                <a:solidFill>
                  <a:srgbClr val="e40000"/>
                </a:solidFill>
                <a:latin typeface="宋体"/>
              </a:rPr>
              <a:t>8</a:t>
            </a:r>
            <a:r>
              <a:rPr b="1" lang="zh-CN" sz="3400" spc="-1" strike="noStrike">
                <a:solidFill>
                  <a:srgbClr val="e40000"/>
                </a:solidFill>
                <a:latin typeface="宋体"/>
              </a:rPr>
              <a:t>分钟内          </a:t>
            </a:r>
            <a:r>
              <a:rPr b="1" lang="zh-CN" sz="3400" spc="-1" strike="noStrike">
                <a:solidFill>
                  <a:srgbClr val="e40000"/>
                </a:solidFill>
                <a:latin typeface="宋体"/>
              </a:rPr>
              <a:t>20%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分钟内        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心肺复苏术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PR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886200" y="2590560"/>
            <a:ext cx="4648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外按压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放气道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irwa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工呼吸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reath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5" descr="未标题-1"/>
          <p:cNvPicPr/>
          <p:nvPr/>
        </p:nvPicPr>
        <p:blipFill>
          <a:blip r:embed="rId1"/>
          <a:stretch/>
        </p:blipFill>
        <p:spPr>
          <a:xfrm>
            <a:off x="685800" y="2514600"/>
            <a:ext cx="2951280" cy="29512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609480" y="182880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8080" y="1241280"/>
            <a:ext cx="22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13716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PR</a:t>
            </a:r>
            <a:r>
              <a:rPr b="0" lang="zh-TW" sz="3600" spc="-1" strike="noStrike">
                <a:solidFill>
                  <a:srgbClr val="ff0000"/>
                </a:solidFill>
                <a:latin typeface="Arial"/>
              </a:rPr>
              <a:t>的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术</a:t>
            </a:r>
            <a:r>
              <a:rPr b="0" lang="zh-TW" sz="3600" spc="-1" strike="noStrike">
                <a:solidFill>
                  <a:srgbClr val="ff0000"/>
                </a:solidFill>
                <a:latin typeface="Arial"/>
              </a:rPr>
              <a:t>包含了三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种</a:t>
            </a:r>
            <a:r>
              <a:rPr b="0" lang="zh-TW" sz="3600" spc="-1" strike="noStrike">
                <a:solidFill>
                  <a:srgbClr val="ff0000"/>
                </a:solidFill>
                <a:latin typeface="Arial"/>
              </a:rPr>
              <a:t>基本的急救技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电除颤能量的选择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双相波除颤仪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50—200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单相波除颤仪：一次能量给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60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宋体"/>
              </a:rPr>
              <a:t>双相除颤电流方向图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97" name="Object 2"/>
          <p:cNvGraphicFramePr/>
          <p:nvPr/>
        </p:nvGraphicFramePr>
        <p:xfrm>
          <a:off x="609480" y="1447920"/>
          <a:ext cx="40006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40006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9" name="Picture 4" descr=""/>
          <p:cNvPicPr/>
          <p:nvPr/>
        </p:nvPicPr>
        <p:blipFill>
          <a:blip r:embed="rId3"/>
          <a:stretch/>
        </p:blipFill>
        <p:spPr>
          <a:xfrm>
            <a:off x="4762440" y="1447920"/>
            <a:ext cx="400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宋体"/>
              </a:rPr>
              <a:t>单相除颤电流方向图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601" name="Object 2"/>
          <p:cNvGraphicFramePr/>
          <p:nvPr/>
        </p:nvGraphicFramePr>
        <p:xfrm>
          <a:off x="609480" y="1600200"/>
          <a:ext cx="4000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4000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3"/>
          <p:cNvGraphicFramePr/>
          <p:nvPr/>
        </p:nvGraphicFramePr>
        <p:xfrm>
          <a:off x="4762440" y="1600200"/>
          <a:ext cx="400068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440" y="1600200"/>
                    <a:ext cx="4000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06" name="" descr="aed-cpr-first-aid-sign-k-9921.gif"/>
          <p:cNvPicPr/>
          <p:nvPr/>
        </p:nvPicPr>
        <p:blipFill>
          <a:blip r:embed="rId1"/>
          <a:stretch/>
        </p:blipFill>
        <p:spPr>
          <a:xfrm>
            <a:off x="533520" y="1676520"/>
            <a:ext cx="3657600" cy="41148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384840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按压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-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深度变更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次规定按压深度的上限：在胸外按压时，按压深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—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于儿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包括婴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于一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至青春期开始的儿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按压深度胸部前后径的三分之一，大约相当于婴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，儿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。对于青少年即应采用成人的按压深度，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婴幼儿胸外心脏按压方法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定位：双乳连线与胸骨垂直交叉点下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横指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幼儿：一手手掌下压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婴儿：环抱法，双拇指重叠下压；或一手食指、中指并拢下压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下压深度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婴儿 ）胸部前后径的三分之一，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儿童 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）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按压频率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100--1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69175719"/>
          <p:cNvPicPr/>
          <p:nvPr/>
        </p:nvPicPr>
        <p:blipFill>
          <a:blip r:embed="rId1"/>
          <a:stretch/>
        </p:blipFill>
        <p:spPr>
          <a:xfrm>
            <a:off x="1440" y="3657600"/>
            <a:ext cx="3300480" cy="3200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28237948"/>
          <p:cNvPicPr/>
          <p:nvPr/>
        </p:nvPicPr>
        <p:blipFill>
          <a:blip r:embed="rId2"/>
          <a:stretch/>
        </p:blipFill>
        <p:spPr>
          <a:xfrm>
            <a:off x="3348000" y="3657600"/>
            <a:ext cx="5775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按压的频率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压频率规定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指南也指出，在心肺复苏过程中，施救者应该以适当的速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00-1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深度进行有效按压，同时尽可能减少胸部按压中断的次数和持续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按压比例限定，减少中断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尽可能减少按压中断，是为了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P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尽可能增加冠脉灌注和血流。今年的指南提出了一些硬性规定：每次中断必须控制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秒之内，按压操作在整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P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过程中不得低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这意味着，在一分钟需要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0-1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按压，根据按压呼吸比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: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中间要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呼吸，不仅每次人工呼吸的时间限制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秒之内，而且还要保证每分钟至少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秒在按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19" name="Picture 3" descr="手1"/>
          <p:cNvPicPr/>
          <p:nvPr/>
        </p:nvPicPr>
        <p:blipFill>
          <a:blip r:embed="rId1"/>
          <a:stretch/>
        </p:blipFill>
        <p:spPr>
          <a:xfrm>
            <a:off x="914400" y="1752480"/>
            <a:ext cx="3505320" cy="3581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20" name="Picture 5" descr="手2"/>
          <p:cNvPicPr/>
          <p:nvPr/>
        </p:nvPicPr>
        <p:blipFill>
          <a:blip r:embed="rId2"/>
          <a:stretch/>
        </p:blipFill>
        <p:spPr>
          <a:xfrm>
            <a:off x="4952880" y="1752480"/>
            <a:ext cx="3276720" cy="3581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621" name="Line 6"/>
          <p:cNvSpPr/>
          <p:nvPr/>
        </p:nvSpPr>
        <p:spPr>
          <a:xfrm flipV="1">
            <a:off x="1981080" y="3200040"/>
            <a:ext cx="1440000" cy="10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7"/>
          <p:cNvSpPr/>
          <p:nvPr/>
        </p:nvSpPr>
        <p:spPr>
          <a:xfrm>
            <a:off x="2057400" y="3276720"/>
            <a:ext cx="1366920" cy="1079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0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压姿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压时上半身前倾，腕、肘、肩关节伸直，以髋关节为轴，垂直向下用力，借助上半身的体重和肩臂部肌肉的力量进行按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4762080" y="1599840"/>
            <a:ext cx="4000680" cy="449892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809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心肺复苏的意义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当人突然发生心跳、呼吸停止时，必须在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至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分钟内建立基础生命维持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保证人体重要脏器的基本血氧供应，直到建立高级生命维持或自身心跳、呼吸恢复为止，其具体操作即心肺复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心跳呼吸骤停是临床上最紧急的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66"/>
                </a:solidFill>
                <a:uFillTx/>
                <a:latin typeface="Arial"/>
              </a:rPr>
              <a:t>70%</a:t>
            </a:r>
            <a:r>
              <a:rPr b="0" lang="zh-CN" sz="2000" spc="-1" strike="noStrike" u="sng">
                <a:solidFill>
                  <a:srgbClr val="000066"/>
                </a:solidFill>
                <a:uFillTx/>
                <a:latin typeface="Arial"/>
              </a:rPr>
              <a:t>以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猝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发生在院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心跳停止</a:t>
            </a:r>
            <a:r>
              <a:rPr b="0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4</a:t>
            </a:r>
            <a:r>
              <a:rPr b="0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分钟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进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PR-B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钟内进行高级生命支持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C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则病人的生存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强调</a:t>
            </a:r>
            <a:r>
              <a:rPr b="0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黄金</a:t>
            </a:r>
            <a:r>
              <a:rPr b="0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4</a:t>
            </a:r>
            <a:r>
              <a:rPr b="0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分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通常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钟内进行心肺复苏，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％能救活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钟以后再进行心肺复苏，只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％能救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的指南一个比较重大的改动就是按压程度，规定了胸外按压的下限：频率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、深度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。但这样就会出现按压过度的问题，这样造成的后果是：患者因为按压收到伤害（比如胸骨和肋骨的骨折）；按压人员会因为长时间的按压而消耗大量的体力，不能保证后续有效地按压（按压幅度不足与按压频率过快有关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按压间隙不倚靠患者胸部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的指南中强调按压间隙需要保证胸廓充分回弹。但是在绝大多数实际临床过程中，每次按压间隙时我们的重心还是偏向患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指南要求按压间隙不能“倚靠”在患者胸部。这就意味着按压间隙，不能有任何力量施加在患者胸部，这对施救者的重心调整提出了更高的要求：手可以放在患者胸上，但是不能有任何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设定固定的高级气道通气频率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于实施了高级气道措施（气管插管、喉罩等）的患者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指南要求通气频率为每分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这次为了更方便学习和实施，将通气频率设定为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每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秒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次（即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次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8.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瘾君子的福音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34" name="" descr="o-EVZIO-facebook.jpg"/>
          <p:cNvPicPr/>
          <p:nvPr/>
        </p:nvPicPr>
        <p:blipFill>
          <a:blip r:embed="rId1"/>
          <a:stretch/>
        </p:blipFill>
        <p:spPr>
          <a:xfrm>
            <a:off x="660240" y="1828800"/>
            <a:ext cx="8052120" cy="40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纳洛酮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版指南指出，对于已知或疑似阿片类药物成瘾的患者，如果无反应且呼吸正常，但有脉搏，救治同时可以给予患者肌内注射或鼻内给予纳洛酮。同时给出了纳洛酮的用法，即纳洛酮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 mg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滴鼻或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.4 mg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肌注。并可根据患者反应情况，在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后重复给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s032323416.jpg"/>
          <p:cNvPicPr/>
          <p:nvPr/>
        </p:nvPicPr>
        <p:blipFill>
          <a:blip r:embed="rId1"/>
          <a:stretch/>
        </p:blipFill>
        <p:spPr>
          <a:xfrm>
            <a:off x="4495680" y="4572000"/>
            <a:ext cx="38102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9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加压素被「除名」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版指出，联合使用加压素和肾上腺素，相比使用标准剂量的肾上腺素在治疗心脏骤停时没有优势。给与加压素相对使用肾上腺素也没有优势，因此，加压素已被新版指南「除名」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当患者的心律不适合电除颤时，应尽早给予肾上腺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研究发现，针对不适合电除颤的心律时，及早给予肾上腺素可以增加存活出院率和神经功能完好存活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10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及早冠脉造影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指南建议，所有疑似心源性心脏骤停患者，无论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段抬高的院外心脏骤停患者，还是疑似心源性心脏骤停而没有心电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段抬高的患者，也无论其是否昏迷，都应实施急诊冠状动脉血管造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11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及早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PCI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患者若在急诊科出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段抬高心肌梗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STEM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而医院不能进行冠脉介入治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C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应立即转移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心，而不应在最初的医院先立即接受溶栓治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如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EME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患者不能及时转诊至能够进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医院，可以将先接受溶栓治疗，在溶栓治疗后最初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时内，最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时内，对所有患者尽早转诊，进行常规血管造影，不建议只在患者因缺血需要血管造影时，才转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12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低温治疗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有在心脏骤停后恢复自主循环的昏迷，即对语言指令缺乏有意义的反应的成年患者，都应采用目标温度管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TTM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选定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度之间，并至少维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13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C-A-B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顺序仍需坚持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于施救顺序，最新的指南重申应遵循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版指南内容，即单一施救者的施救顺序：应先开始胸外按压再进行人工呼吸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 - A - 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，减少首次按压的延时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胸外按压后做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人工呼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C P R 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目 标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609120" y="1599840"/>
            <a:ext cx="8153640" cy="217332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初级目标：自主循环恢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级目标：减少神经系统损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终极目标：出院存活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8381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呼吁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国每年有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万例院内心脏骤停发生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P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训是基础必会的课程。然而，研究显示，这一技能会在接受培训后数月内逐渐生疏。所以应进行反复、高频的培训来保证院内持续掌握，并熟悉如何将患者转运到最高质量的心血管急救部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《美国急诊临床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365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问》之心肺复苏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心脏骤停复苏过程中气管插管后，急救人员应该多久给一次通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气管插管后，管理呼吸道人员要在不影响胸外按压前提下，每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秒钟给 一次通气，即每分钟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临床医生经常会在胸外按压时检查动脉搏动，以评估按压的有效性。为什么 在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心肺复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PR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程中检查股动脉时必须谨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于下腔静脉没有瓣膜，股静脉血流逆行进入静脉系统可能会产生搏动。因 此，在触诊股三角区时的搏动可能是静脉搏动而不是动脉搏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美国每年约有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万人发生心脏骤停。随着急救技术的发展，出院存活率已 提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 %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.6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但是，如果在现场自主循环没有恢复，那么存活率又占多 少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在现场自主循环没有恢复，只有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.9%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患者存活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根据目前最新的美国心脏协会心肺复苏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指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CLS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在对心室颤动或无脉 搏室性心动过速的患者进行电击除颤后，紧接着的步骤应该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击除颤后应立即恢复心肺复苏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检查心律或脉搏，直接开始胸外按 压）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后再进行下一次心律检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、哪个部位放置电极或除颤板是最有效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右侧锁骨中线锁骨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左侧腋中线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六、如宫底高度在肚脐（孕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周）的孕妇发生心脏骤停，在行心肺复苏的同时， 要及时考虑行剖宫产。这一操作仅仅是为了尽力挽救胎儿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剖宫产是对胎儿的挽救，但对心脏骤停的孕妇也是有益的。在一组这种病 例的系列报告中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孕妇中有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在剖宫产后立即出现自主循环恢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七、对一个新生儿进行心肺复苏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PR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开始胸外按压的指征是什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胸外按压的指征为：在给氧和足够通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秒钟后心率仍低于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m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八、在检查新生儿动脉搏动时，什么部位最为准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脐带动脉搏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前  言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，新版《美国心脏学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P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C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南》隆重登场。今年的指南到底有啥变动？是否如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前那样几乎彻底颠覆？下面我们就梳理一下该指南中标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P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流程的主要变更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、在新生儿心肺复苏的过程中，辅助通气的频率应该是多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分钟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十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美国心脏协会心肺复苏指南中不建议常规使用碳酸氢钠，但下面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种 情况除外，它们是哪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种情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除了已知患者存在代谢性酸中毒、高钾血症和三环类抗抑郁药中毒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种情况 外，美国心脏协会心肺复苏指南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CLS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建议常规使用碳酸氢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十一、心脏震击猝死综合征的发生取决于胸部受震击的位置，震击到什么位置才会诱发心室颤动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F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诱发心室颤动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F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震击必须直接击至心脏的中心，而不是在心底、心尖或 心前区之外，穿戴护胸与减少震击猝死综合征的发病率或好的预后没有关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十二、在对一个由低温造成的心脏骤停患者心肺复苏时，血钾高于什么水平可认为 心肺复是徒劳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血钾高于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 mmol/L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，应考虑终止心肺复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e40000"/>
                </a:solidFill>
                <a:latin typeface="Arial"/>
                <a:ea typeface="仿宋_GB2312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生命链一分为二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H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人生存链分为两链：一链为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院内急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系，另一链为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院外急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院外心脏骤停（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OHCA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）生存链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手机时代，充分利用社会媒体呼叫施救者，手机等现代化电子设备能够在院外急救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3373560"/>
            <a:ext cx="9144000" cy="34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院内心脏骤停（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IHCA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）生存链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院内急救应以团队形式实施</a:t>
            </a:r>
            <a:r>
              <a:rPr b="0" lang="zh-CN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心肺复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早期预警系统、快速反应小组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R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和紧急医疗团队系统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E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324000" y="3057480"/>
            <a:ext cx="842472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宋体"/>
              </a:rPr>
              <a:t>专业人员</a:t>
            </a:r>
            <a:r>
              <a:rPr b="0" lang="zh-CN" sz="4000" spc="-1" strike="noStrike">
                <a:solidFill>
                  <a:srgbClr val="e40000"/>
                </a:solidFill>
                <a:latin typeface="宋体"/>
              </a:rPr>
              <a:t>BLS</a:t>
            </a:r>
            <a:r>
              <a:rPr b="0" lang="zh-CN" sz="4000" spc="-1" strike="noStrike">
                <a:solidFill>
                  <a:srgbClr val="e40000"/>
                </a:solidFill>
                <a:latin typeface="宋体"/>
              </a:rPr>
              <a:t>整体流程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没有反应，没有呼吸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没有脉搏（判断不超过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秒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38280" y="1066680"/>
            <a:ext cx="3962520" cy="64260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没有反应，没有呼吸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没有脉搏（判断不超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3352680" y="2057400"/>
            <a:ext cx="2133720" cy="431640"/>
          </a:xfrm>
          <a:prstGeom prst="rect">
            <a:avLst/>
          </a:prstGeom>
          <a:solidFill>
            <a:srgbClr val="ff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启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Diagram 4"/>
          <p:cNvGrpSpPr/>
          <p:nvPr/>
        </p:nvGrpSpPr>
        <p:grpSpPr>
          <a:xfrm>
            <a:off x="3141360" y="2860200"/>
            <a:ext cx="2404080" cy="2340360"/>
            <a:chOff x="3141360" y="2860200"/>
            <a:chExt cx="2404080" cy="2340360"/>
          </a:xfrm>
        </p:grpSpPr>
        <p:sp>
          <p:nvSpPr>
            <p:cNvPr id="532" name="_s118801"/>
            <p:cNvSpPr/>
            <p:nvPr/>
          </p:nvSpPr>
          <p:spPr>
            <a:xfrm>
              <a:off x="3653280" y="2860200"/>
              <a:ext cx="1380240" cy="1664280"/>
            </a:xfrm>
            <a:custGeom>
              <a:avLst/>
              <a:gdLst>
                <a:gd name="textAreaLeft" fmla="*/ 0 w 1380240"/>
                <a:gd name="textAreaRight" fmla="*/ 1380240 w 1380240"/>
                <a:gd name="textAreaTop" fmla="*/ 0 h 1664280"/>
                <a:gd name="textAreaBottom" fmla="*/ 1664640 h 166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e2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_s118799"/>
            <p:cNvSpPr/>
            <p:nvPr/>
          </p:nvSpPr>
          <p:spPr>
            <a:xfrm rot="7200000">
              <a:off x="3699360" y="3395520"/>
              <a:ext cx="1664280" cy="1380240"/>
            </a:xfrm>
            <a:custGeom>
              <a:avLst/>
              <a:gdLst>
                <a:gd name="textAreaLeft" fmla="*/ 0 w 1664280"/>
                <a:gd name="textAreaRight" fmla="*/ 1664640 w 1664280"/>
                <a:gd name="textAreaTop" fmla="*/ 0 h 1380240"/>
                <a:gd name="textAreaBottom" fmla="*/ 1380240 h 138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e2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_s118800"/>
            <p:cNvSpPr/>
            <p:nvPr/>
          </p:nvSpPr>
          <p:spPr>
            <a:xfrm rot="14400000">
              <a:off x="3322440" y="3395160"/>
              <a:ext cx="1664280" cy="1379880"/>
            </a:xfrm>
            <a:custGeom>
              <a:avLst/>
              <a:gdLst>
                <a:gd name="textAreaLeft" fmla="*/ 0 w 1664280"/>
                <a:gd name="textAreaRight" fmla="*/ 1664640 w 166428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e2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_s118802"/>
            <p:cNvSpPr/>
            <p:nvPr/>
          </p:nvSpPr>
          <p:spPr>
            <a:xfrm>
              <a:off x="4721400" y="3163680"/>
              <a:ext cx="553320" cy="6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人工通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_s118803"/>
            <p:cNvSpPr/>
            <p:nvPr/>
          </p:nvSpPr>
          <p:spPr>
            <a:xfrm>
              <a:off x="4066560" y="4533120"/>
              <a:ext cx="553320" cy="6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分析心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_s118804"/>
            <p:cNvSpPr/>
            <p:nvPr/>
          </p:nvSpPr>
          <p:spPr>
            <a:xfrm>
              <a:off x="3411000" y="3164400"/>
              <a:ext cx="553320" cy="66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胸外按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3587400" y="3733560"/>
              <a:ext cx="118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13"/>
          <p:cNvSpPr/>
          <p:nvPr/>
        </p:nvSpPr>
        <p:spPr>
          <a:xfrm>
            <a:off x="6172200" y="3886200"/>
            <a:ext cx="1494000" cy="325440"/>
          </a:xfrm>
          <a:prstGeom prst="rect">
            <a:avLst/>
          </a:prstGeom>
          <a:solidFill>
            <a:srgbClr val="ff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E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到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1403280" y="5373720"/>
            <a:ext cx="2330640" cy="719280"/>
          </a:xfrm>
          <a:prstGeom prst="rect">
            <a:avLst/>
          </a:prstGeom>
          <a:solidFill>
            <a:srgbClr val="ff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电击一次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周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6"/>
          <p:cNvSpPr/>
          <p:nvPr/>
        </p:nvSpPr>
        <p:spPr>
          <a:xfrm>
            <a:off x="5105520" y="5410080"/>
            <a:ext cx="2438280" cy="576360"/>
          </a:xfrm>
          <a:prstGeom prst="rect">
            <a:avLst/>
          </a:prstGeom>
          <a:solidFill>
            <a:srgbClr val="ff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周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7"/>
          <p:cNvSpPr/>
          <p:nvPr/>
        </p:nvSpPr>
        <p:spPr>
          <a:xfrm>
            <a:off x="3059280" y="6165720"/>
            <a:ext cx="2884320" cy="358920"/>
          </a:xfrm>
          <a:prstGeom prst="rect">
            <a:avLst/>
          </a:prstGeom>
          <a:solidFill>
            <a:srgbClr val="ff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主循环恢复，复苏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9"/>
          <p:cNvSpPr/>
          <p:nvPr/>
        </p:nvSpPr>
        <p:spPr>
          <a:xfrm>
            <a:off x="4343400" y="1752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29"/>
          <p:cNvSpPr/>
          <p:nvPr/>
        </p:nvSpPr>
        <p:spPr>
          <a:xfrm>
            <a:off x="4343400" y="2514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9"/>
          <p:cNvSpPr/>
          <p:nvPr/>
        </p:nvSpPr>
        <p:spPr>
          <a:xfrm>
            <a:off x="434340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9"/>
          <p:cNvSpPr/>
          <p:nvPr/>
        </p:nvSpPr>
        <p:spPr>
          <a:xfrm flipH="1">
            <a:off x="5410080" y="40384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9"/>
          <p:cNvSpPr/>
          <p:nvPr/>
        </p:nvSpPr>
        <p:spPr>
          <a:xfrm flipH="1">
            <a:off x="3809520" y="51055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9"/>
          <p:cNvSpPr/>
          <p:nvPr/>
        </p:nvSpPr>
        <p:spPr>
          <a:xfrm>
            <a:off x="4572000" y="5105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2"/>
          <p:cNvSpPr/>
          <p:nvPr/>
        </p:nvSpPr>
        <p:spPr>
          <a:xfrm>
            <a:off x="838080" y="472428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21"/>
          <p:cNvSpPr/>
          <p:nvPr/>
        </p:nvSpPr>
        <p:spPr>
          <a:xfrm flipV="1">
            <a:off x="838080" y="4723920"/>
            <a:ext cx="0" cy="10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20"/>
          <p:cNvSpPr/>
          <p:nvPr/>
        </p:nvSpPr>
        <p:spPr>
          <a:xfrm flipH="1">
            <a:off x="837720" y="5715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0"/>
          <p:cNvSpPr/>
          <p:nvPr/>
        </p:nvSpPr>
        <p:spPr>
          <a:xfrm flipH="1">
            <a:off x="7543800" y="56386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1"/>
          <p:cNvSpPr/>
          <p:nvPr/>
        </p:nvSpPr>
        <p:spPr>
          <a:xfrm flipV="1">
            <a:off x="8077320" y="4648320"/>
            <a:ext cx="0" cy="10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5"/>
          <p:cNvSpPr/>
          <p:nvPr/>
        </p:nvSpPr>
        <p:spPr>
          <a:xfrm flipH="1">
            <a:off x="5334120" y="464832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ier</cp:lastModifiedBy>
  <dcterms:modified xsi:type="dcterms:W3CDTF">2016-06-12T04:18:2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