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gif" ContentType="image/gif"/>
  <Override PartName="/ppt/media/image4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002-524C-43A2-BB54-C3BF9CE8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945-EF2C-46F3-960E-0D9B04CA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296-41FE-407A-8E5E-089B5F18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5D5-789A-4B02-9613-A4ACFCDB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7CC-D9AE-4AAC-867B-095D6833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4FF-EF94-4933-ADD1-F158296E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6FF-869E-4B4A-9BA9-EE976A61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5469-19D7-4006-BE22-38EA4980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267-E631-4BBA-A326-7C679295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9732-3B9B-44B4-B159-2D09CAB7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19F-120B-4B39-95C7-E4E297C0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820-6DED-4ECB-B970-1ECD02DB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1926-5E90-44F5-8955-561868CC59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Impact"/>
              </a:rPr>
              <a:t>社会焦虑及应对</a:t>
            </a:r>
            <a:br>
              <a:rPr sz="6000"/>
            </a:br>
            <a:r>
              <a:rPr b="1" lang="zh-CN" sz="4000" spc="-1" strike="noStrike">
                <a:solidFill>
                  <a:srgbClr val="000000"/>
                </a:solidFill>
                <a:latin typeface="Impact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Impact"/>
              </a:rPr>
              <a:t>调整心态，适应环境</a:t>
            </a:r>
            <a:br>
              <a:rPr sz="6000"/>
            </a:br>
            <a:br>
              <a:rPr sz="60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郑士全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016.09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36089020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下中国社会的诸多社会问题以及道德问题，有复杂的社会原因，转型期社会特有的无序化、个体化、碎片化、价值紊乱、制度管理缺少细节等，就是其相关深层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葛晨虹，中国人民大学伦理学与道德建设研究中心教授，博士生导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的归属感构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归属感缺失是一种心灵失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庭因其特有的关系结构，用爱和责任为人们构建起空间归属和精神归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区是人们生活的主要场所，在构建归属感中可以有更大作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是人们工作的基本场所，在构建归属感中的地位非常重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志愿者组织、公益组织等社会组织在归属感构建中具有重要作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医学心理学基础知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心理活动的三个基本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知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情感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意志行为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认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注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记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智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认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知是指个体通过感觉、知觉、表象、想象、记忆、思维等形式，把握客观事物的性质和规律的认识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认知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：心理活动（意识）对一定对象的指向和集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随意注意（无意注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意注意（有意注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意后注意（有意后注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良好的注意品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当的范围       注意的广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对的稳定       注意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善于分配           注意的分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动转移           注意的转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感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的感觉 视、听、嗅、味、触、平衡、运动、内脏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知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脑对直接作用于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觉器官的客观事物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个部分和属性的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的翻译，是对感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信息的组织和解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05520" y="3178080"/>
            <a:ext cx="4038480" cy="3679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808600" y="0"/>
            <a:ext cx="2784600" cy="3276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33520" y="4516560"/>
            <a:ext cx="41148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错觉</a:t>
            </a:r>
            <a:br>
              <a:rPr sz="40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以视觉的错觉常见）下面的直线可以相交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23320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竞争是普遍存在的现象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世界上只要有两个人存在，就不会存在平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竞争的极端例子就是决斗和战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胜者王、败者寇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一将成名万骨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-92160"/>
            <a:ext cx="868680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社会知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社会实践中对自身、对他人、对群体的知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自己     自知之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他人     全面的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群体     定位 人际  角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社会知觉的偏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偏差                          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首因效应                 先入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近因效应                 最近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晕轮效应                 以点带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环、彩虹现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自动实现效应   鼓励与贬低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势效应                 刻板印象（固定看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错误联想                 疑邻偷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投射作用                 以己度人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迷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情绪状态                人是奇怪的感情动物，怀抱一块石头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捂热了，都会产生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种有目的 有计划 有思维参与的、持久的知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好的观察要有客观性  全面性 准确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南京法官      扶老人赔钱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官的依据   孩子承认撞人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的思考   孩子的话能作为法律依据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孩子的话是在什么背景下说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记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忆力是人脑对过去经验的保留和恢复的能力。是大脑对信息的输入、编码、存贮和提取的能力。是智能结构中的一个基本成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3390840"/>
            <a:ext cx="84488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鲶鱼效应？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039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脑对客观事物的间接地和概括的反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包括分析、综合、比较、抽象、概括等程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智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智力商数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Q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智力年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理年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22960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情感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绪  是对于各种认知对象的一种内在的感    受和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感（心境）是较为持久的情绪基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类的情绪体验分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性情绪  愉快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性情绪  恐惧 焦虑 忧愁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负性情绪  忧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情绪的调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又称情绪智力，是指人在情绪、情感、意志、耐受挫折等方面的品质。现在普遍认为，情商水平的高低对一个人能否取得成功有着重大的影响作用，有时其作用甚至要超过智力水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商包括以下几个方面的内容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认识自身的情绪。因为只有认识自己，才能成为自己生活的主宰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能妥善管理自己的情绪。即能调控自己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自我激励，它能够使人走出生命中的低潮，重新出发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认知他人的情绪。这是与他人正常交往，实现顺利沟通的基础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人际关系的管理。即领导和管理能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我意识  自我激励  情绪控制  人际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情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会综合利用大脑中的各个部位的，并在大多数情况下运用其大脑皮层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情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尊重所有人的人权和人格尊严。 不将自己的价值观强加于人。对自己有清醒的认识，能承受压力。自信而不自满。 人际关系良好。善于处理生活中遇到的各方面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高情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负责任的“好”公民。自尊。 有独立人格，但在一些情况下易受别人焦虑情绪的感染。比较自信而不自满。较好的人际关系。能应对大多数的问题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较低情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易受他人影响，自己的目标不明确。 比低情商者善于原谅，能控制大脑。 能应付较轻的焦虑情绪。把自尊建立在他人认同的基础上。缺乏坚定的自我意识。 人际关系较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低情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自我意识差。无确定的目标，也不打算付诸实践。严重依赖他人。处理人际关系能力差。应对焦虑能力差。生活无序。 无责任感，爱抱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情绪控制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做自己情绪的主宰，不情绪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良情绪的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暴怒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度焦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度紧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抑郁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卑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意志行为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觉的确定目的，根据目的支配、调节自己的行为，并通过客服困难实现预定目标的心理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动机斗争（冲突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动机相互矛盾，产生冲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双趋式冲突    双吸引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双避式冲突     双回避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趋避式冲突     有吸引又有回避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蝴蝶效应</a:t>
            </a:r>
            <a:br>
              <a:rPr sz="60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安全感的缺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息化高度发达的今天，蝴蝶效应不断显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郭美美，谁曾想到一条微博，就导致红会公信力直线下降，迎来一片“滚”（就个人来说，还是比较相信红会的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普遍愤怒的社会，可能一件微不足道的事情就能引起轩然大坡，一句话（莒南县法官）、一个表情（微笑哥）、一只表，一套房也可能成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越来越多的事情无法预料，个体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安全感缺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76600" y="0"/>
            <a:ext cx="4667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意志品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觉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果断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坚韧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制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类心理精神活动的发展条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理的基础    中枢神经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环境的刺激    猪孩  狼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塑性    宗教、文化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逆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A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除了智商、情商外，近年来又流行一个新概念：挫折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逆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成为人们获取成功必备的不二法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00%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成功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0%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IQ+80%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EQ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逆商全称逆境商数，它是指人们面对逆境时的反应方式，即面对挫折、摆脱困境和超越困难的能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与成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帮助产生一流的成绩、生产力、创造力，可以帮助人们保持健康、活力和愉快的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的人手术后康复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可以培养的，并且最好是从小培养，所以现在许多教育机构都在提倡挫折教育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转型期的社会焦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下中国社会急速的转型、变革，意味着社会整体利益结构的调整，大批社会成员、社会群体的社会地位和经济地位被重新洗牌。人们有时觉得无章可循，不确定性因素增加。这使得社会成员产生一种人生的不确定，对前景的不确定性让人心里不踏实，人们对于未来不可预期。这自然就会形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社会焦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焦虑与心理失衡循环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会焦虑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群体性焦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是一种社会心理病，社会成员当中普遍存在的一种紧张不安的心理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会焦虑可能覆盖所有群体，包括人数最多的工人群体、农民群体以及处境相对比较优越的干部群体、企业家群体和中等收入群体，他们都有精神不安、浮躁不定的表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型期的心理焦虑进一步加剧了转型期的心理失衡，需要与转型期的心理失衡一块调适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全民焦虑”时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78892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全民焦虑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心理失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表现或者说是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心理失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引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就业焦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身份焦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和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财富焦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就是在这三个问题上心理失衡所引起的：大学毕业后总找不到工作就心理失衡，就有“就业焦虑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城市工作一二十年了，还没有城市户口，就心理失衡，就有“身份焦虑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别人买了房子、买了车，都富起来了，自己一无所有，就心理失衡，就有“财富焦虑”。总之，只要在形形色色的问题上心理失衡，就会产生形形色色的心理焦虑，就需要进行心理调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社会焦虑的诱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会生活中的高房价、高物价、高通胀、负利率、分配不公等现象的直接担忧和不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等收入阶层的社会心理焦虑主要被现实中的住房、教育、医疗和养老等高昂的生活成本所缚，其积累财富的能力被扼杀，从而陷入群体性焦虑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转型期的社会心理调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既然转型期人们存在着这么多心理焦虑，就迫切需要对人们进行心理调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理调适是根据自身发展及环境需要对自己进行心理控制与调节，从而最大限度地发挥个人潜能，维护心理平衡，消除心理问题，以求个人身、心以及个人与环境相协调的状态。心理调适是使用心理科学的方法对认知、情绪、意志、意向等心理活动进行调整，以保持或恢复正常状态的实践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古人的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之所惧   齐  战  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巧言令色，鲜仁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同一事物或想象的多种矛盾见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读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读书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般皆下品惟有读书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中自有黄金屋，书中自有颜如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越多越反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无一用是书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秀才造反三年不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心理调适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理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理分析（精神分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理宣泄 自我反省 心理暗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为疗法   系统脱敏  厌恶疗法  放松疗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合理情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法改变人生，但是可以改变人生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苏轼与王安石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昨夜西风过园林，吹落幻化满地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风不必东风恶 ，说与诗人仔细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力改变现实环境，要去适应现实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人都醉我独醒   祥林嫂似的悲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心理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理宣泄   倾诉  哭泣  心理宣泄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我反省   我日三省吾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我暗示    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神 自我安慰 自我满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神胜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行为疗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统脱敏疗法     冥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厌恶疗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松疗法   按不同场所和时间去做  深呼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放松操  放假  旅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可取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暴自弃    赌气  发牢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转移（一个屁的故事）   罚人吃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酗酒  抽烟  报复行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红楼梦的好了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人都晓神仙好，惟有功名忘不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今将相在何方？荒冢一堆草没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人都晓神仙好，只有金银忘不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终朝只恨聚无多，及到多时眼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人都晓神仙好，只有娇妻忘不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君生日日说恩情，君死又随人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人都晓神仙好，只有儿孙忘不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痴心父母古来多，孝顺儿孙谁见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古人的教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欲望不要太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君子食无求饱，居无求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人态度平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贫而无谄，富而无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我约束到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君子欲讷于言而敏于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随遇而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饭疏食饮水，曲肱而枕之，乐亦在其中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古人的教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富贵不要苛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义而富且贵，于我如浮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中不留抱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君子坦荡荡小人长戚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态习惯要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勿以善小而不为，勿以恶小而为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洁身自爱持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子曰  吾未见好德如好色者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心理疏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一定需要专业知识和技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摘使瓜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摘适瓜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摘使瓜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解铃还须系铃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把禾苗插野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低头便见水中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根清净方为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退步原来是向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48320" y="3868560"/>
            <a:ext cx="4495680" cy="2989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0" y="3876840"/>
            <a:ext cx="44956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同一现象 不同认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靴子和伞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人成虎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张纸的不同视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瞎子摸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谢谢大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1532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社会转型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体制转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划经济体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会主义市场经济体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社会结构变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种整体的和全面的结构状态过渡，而不仅仅是某些单项发展指标的实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213372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社会转型的具体内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构转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机制转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利益调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念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们的行为方式、生活方式、价值体系都会发生明显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转型期人们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心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也往往会面临前所未有的挑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强调外在制度建构的同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定要注重人的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心灵秩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建设及德治引导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葛晨虹，中国人民大学伦理学与道德建设研究中心教授，博士生导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9-01T09:31:02Z</dcterms:modified>
  <cp:revision>1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